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850B8-CCD6-4584-85F1-1F5878BF1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7B40A-9C9E-467F-8C42-5DE3CE623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603F0-3245-4461-B1D2-3CA1431D4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C6DA4-590E-4BA7-BB50-C41E2345F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B836-50F4-40A9-AB38-10435C9E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F2B1C-ABEF-4FFA-BDC8-25BA58EC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8DF8-D1C8-4331-B779-AF74FF54E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5864F-3DCB-4D92-817C-51B32560D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AF13E-75F5-4E95-811D-D8463CD2C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CC8D-5486-443A-8B0F-F36E09F87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F332-2455-4FCA-A0FE-7DF0AD9F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1C9A8-173D-40B1-A25B-D125D78B0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8C52-1DBC-4BA0-88B9-5563AC5F0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922680"/>
            <a:ext cx="8915400" cy="469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ILS AND LAND USE IN N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e of So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il is a natural body embracing not only the topsoil, but also the subsoil and other layers above its parent rock. It is a product of its environment – of the rock waste which is its </a:t>
            </a:r>
            <a:r>
              <a:rPr b="1" lang="en-US" sz="1800" spc="-1" strike="noStrike">
                <a:solidFill>
                  <a:srgbClr val="ff3300"/>
                </a:solidFill>
                <a:latin typeface="Arial"/>
              </a:rPr>
              <a:t>parent material</a:t>
            </a:r>
            <a:r>
              <a:rPr b="1" lang="en-US" sz="1800" spc="-1" strike="noStrike">
                <a:solidFill>
                  <a:srgbClr val="000000"/>
                </a:solidFill>
                <a:latin typeface="Arial"/>
              </a:rPr>
              <a:t>, of the </a:t>
            </a:r>
            <a:r>
              <a:rPr b="1" lang="en-US" sz="1800" spc="-1" strike="noStrike">
                <a:solidFill>
                  <a:srgbClr val="ff3300"/>
                </a:solidFill>
                <a:latin typeface="Arial"/>
              </a:rPr>
              <a:t>climate</a:t>
            </a:r>
            <a:r>
              <a:rPr b="1" lang="en-US" sz="1800" spc="-1" strike="noStrike">
                <a:solidFill>
                  <a:srgbClr val="000000"/>
                </a:solidFill>
                <a:latin typeface="Arial"/>
              </a:rPr>
              <a:t> under which it weathers, of the kind of </a:t>
            </a:r>
            <a:r>
              <a:rPr b="1" lang="en-US" sz="1800" spc="-1" strike="noStrike">
                <a:solidFill>
                  <a:srgbClr val="ff3300"/>
                </a:solidFill>
                <a:latin typeface="Arial"/>
              </a:rPr>
              <a:t>topography</a:t>
            </a:r>
            <a:r>
              <a:rPr b="1" lang="en-US" sz="1800" spc="-1" strike="noStrike">
                <a:solidFill>
                  <a:srgbClr val="000000"/>
                </a:solidFill>
                <a:latin typeface="Arial"/>
              </a:rPr>
              <a:t> upon which it is situated, of the </a:t>
            </a:r>
            <a:r>
              <a:rPr b="1" lang="en-US" sz="1800" spc="-1" strike="noStrike">
                <a:solidFill>
                  <a:srgbClr val="ff3300"/>
                </a:solidFill>
                <a:latin typeface="Arial"/>
              </a:rPr>
              <a:t>vegetation</a:t>
            </a:r>
            <a:r>
              <a:rPr b="1" lang="en-US" sz="1800" spc="-1" strike="noStrike">
                <a:solidFill>
                  <a:srgbClr val="000000"/>
                </a:solidFill>
                <a:latin typeface="Arial"/>
              </a:rPr>
              <a:t> and other </a:t>
            </a:r>
            <a:r>
              <a:rPr b="1" lang="en-US" sz="1800" spc="-1" strike="noStrike">
                <a:solidFill>
                  <a:srgbClr val="ff3300"/>
                </a:solidFill>
                <a:latin typeface="Arial"/>
              </a:rPr>
              <a:t>organisms</a:t>
            </a:r>
            <a:r>
              <a:rPr b="1" lang="en-US" sz="1800" spc="-1" strike="noStrike">
                <a:solidFill>
                  <a:srgbClr val="000000"/>
                </a:solidFill>
                <a:latin typeface="Arial"/>
              </a:rPr>
              <a:t> with which it develops, and of the length of </a:t>
            </a:r>
            <a:r>
              <a:rPr b="1" lang="en-US" sz="1800" spc="-1" strike="noStrike">
                <a:solidFill>
                  <a:srgbClr val="ff3300"/>
                </a:solidFill>
                <a:latin typeface="Arial"/>
              </a:rPr>
              <a:t>time</a:t>
            </a:r>
            <a:r>
              <a:rPr b="1" lang="en-US" sz="1800" spc="-1" strike="noStrike">
                <a:solidFill>
                  <a:srgbClr val="000000"/>
                </a:solidFill>
                <a:latin typeface="Arial"/>
              </a:rPr>
              <a:t> during which it has been develo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standpoint of land use the soil is regarded as a medium of plant growth, but it is not a passive medium. It is an active body comprising not only mineral and organic constituents, but also the soil processes that are continually going on, as well as soil temperature and moisture regimes that keep these processes operating. The dynamic or active soil, as defined in this way, correlates well with the kinds and distribution of soil organisms, with plant growth, with land capability, and with land</a:t>
            </a:r>
            <a:r>
              <a:rPr b="0" lang="en-US" sz="1800" spc="-1" strike="noStrike">
                <a:solidFill>
                  <a:srgbClr val="000000"/>
                </a:solidFill>
                <a:latin typeface="Arial"/>
              </a:rPr>
              <a:t> </a:t>
            </a:r>
            <a:r>
              <a:rPr b="1" lang="en-US" sz="1800" spc="-1" strike="noStrike">
                <a:solidFill>
                  <a:srgbClr val="000000"/>
                </a:solidFill>
                <a:latin typeface="Arial"/>
              </a:rPr>
              <a:t>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0" y="414360"/>
            <a:ext cx="891540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il-forming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vironmental conditions responsible for soil formation in New Zealand are varied. The main islands extend south over a distance of a thousand miles, from latitude 34° 24' S to 47° 17' S. Their climate ranges from oceanic to subcontinental, and, from subtropic to cool temperate on the lowlands to alpine on the mountains (maximum elevation of 4000m). They are mostly humid (rainfall, 1000 – 2000mm per annum); however, since the rain comes mostly from the west, the western side of the South Island is superhumid (2000 – 8000mm). Parts of the east and west coasts of the North Island and the east coast of the South Island in the shadow of the mountains are subhumid (500 – 1000mm), and interior basins of the South Island are semi-arid (200 – 400mm). Most of the humid areas were originally in forest or scrub and the drier areas were in tussock grassland, but high on the mountains subalpine scrub, herbfield, or fellfield preva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0" y="1463040"/>
            <a:ext cx="9144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opography and geology of New Zealand are similarly varied. Half the country is steep, 20 per cent is moderately steep, and only 30 per cent is rolling or flat land . The largest area of flat land is the Canterbury Plains on the east coast of the South Island. Geologically, New Zealand has a continental structure and is formed predominantly from rocks of sedimentary origin, but in the northern half of the North Island both basaltic and andesitic rocks are important soil formers, and in the middle part of the North Island various ash showers of rhyolitic or andesitic composition blanket the terrain. South of the ash-shower region the impress of the Ice Age is reflected by glacial erosion and deposits of loess and boulders in the South Island, and by corresponding loess-like and stony sedimentary beds and possibly periglacial solifluction in the southern part of the North Island. The Ice Age is also reflected on the coasts and in the valleys by terraces associated with the changes of sea level that accompanied the accumulation of ice in polar reg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0" y="810000"/>
            <a:ext cx="899172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Zonal So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zonal soils are formed on normal sites from ordinary silica-based rocks and show clearly the influence of climate and vegetation. If the soils from unusual parent materials (such as volcanic ash) and those occupying special sites (such as steep slopes and hollows) are set aside, a simple pattern of zonal soils is revealed. It consists of the brown-grey earths of the semi-arid areas where the rainfall is less than about 500mm a year; the yellow-grey earths of sub-humid areas where the rainfall is approximately 500 – 1000mm a year; the high country, central and southern, and northern yellow-brown earths of the humid regions where the rainfall is well distributed and is greater than approximately 1000mm a year; and the corresponding podzolised yellow-brown earths and podzols resulting from excessive leaching beneath an acid litter of decomposing vegetation. The </a:t>
            </a:r>
            <a:r>
              <a:rPr b="1" i="1" lang="en-GB" sz="1800" spc="-1" strike="noStrike">
                <a:solidFill>
                  <a:srgbClr val="000000"/>
                </a:solidFill>
                <a:latin typeface="Arial"/>
              </a:rPr>
              <a:t>southern and central yellow-grey earths</a:t>
            </a:r>
            <a:r>
              <a:rPr b="1" lang="en-GB" sz="1800" spc="-1" strike="noStrike">
                <a:solidFill>
                  <a:srgbClr val="000000"/>
                </a:solidFill>
                <a:latin typeface="Arial"/>
              </a:rPr>
              <a:t> are the seasonally dry soils of Southern Otago, Canterbury, Wairarapa, Hawke's Bay, and Manawatu, where rainfall is inadequate for plant growth for a third to a half of the year. They are moderately to weakly acid and the older soils have a thick, hard pan in the subsoil. The drier soils, formed under tussock, are used for mixed arable farming and fat lambs and the moister soils, mostly formed under forest, are used also for dairying. Pastures on these soils respond to phosphate fertilis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1173600"/>
            <a:ext cx="899172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razonal and Azonal Soi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intrazonal soils include the soils from less common parent materials and those influenced by high ground water; and the azonal soils are youthful, owing to recent renewal by sedimentation or ero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rendzina and other calcareous (or lime-rich) soils</a:t>
            </a:r>
            <a:r>
              <a:rPr b="1" lang="en-GB" sz="1800" spc="-1" strike="noStrike">
                <a:solidFill>
                  <a:srgbClr val="000000"/>
                </a:solidFill>
                <a:latin typeface="Arial"/>
              </a:rPr>
              <a:t>, mostly from limestones, occur both in the subhumid areas (such as near Oamaru, in North Canterbury, and in Hawke's Bay), where they are associated with yellow-grey earths. They are fertile, with deep, dark, granular topsoils. In the drier areas they are used for intensive arable farming and sheep farm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1326960"/>
            <a:ext cx="91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yellow-brown pumice soils</a:t>
            </a:r>
            <a:r>
              <a:rPr b="1" lang="en-GB" sz="1800" spc="-1" strike="noStrike">
                <a:solidFill>
                  <a:srgbClr val="000000"/>
                </a:solidFill>
                <a:latin typeface="Arial"/>
              </a:rPr>
              <a:t> of central North Island are formed mostly on two volcanic-ash showers that fell 800 and 1,700 years ago. Their topsoils are mostly sands or sandy loams and the subsoils pumice sands and gravels. Because the cattle and sheep on them became bush sick, they were difficult to farm for many years and large areas were planted in exotic forests. The ailment, however, is now overcome by topdressing with cobaltised superphosphate and, except where droughty, the soils can be converted into good farm land. In addition to phosphate, they need consolidation and, after continued use, potash top-dr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yellow-brown loams</a:t>
            </a:r>
            <a:r>
              <a:rPr b="1" lang="en-GB" sz="1800" spc="-1" strike="noStrike">
                <a:solidFill>
                  <a:srgbClr val="000000"/>
                </a:solidFill>
                <a:latin typeface="Arial"/>
              </a:rPr>
              <a:t> are derived mostly from fine-textured ashes erupted by volcanoes in central North Island and by Mount Egmont and occur around the margin of the pumice soils, which are younger. They are very friable, loamy soils, respond well to superphosphate topdressing, and give slight to good responses to lime; potash responses are expected to increase with continued use. The soils are used mainly for dairying and fat-lamb prod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0" y="1737720"/>
            <a:ext cx="8991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recent soils from alluvium</a:t>
            </a:r>
            <a:r>
              <a:rPr b="1" lang="en-GB" sz="1800" spc="-1" strike="noStrike">
                <a:solidFill>
                  <a:srgbClr val="000000"/>
                </a:solidFill>
                <a:latin typeface="Arial"/>
              </a:rPr>
              <a:t> are formed from flood sediments on river flats. For the most part they are fertile, deep loams, but some are gravelly with excessive drainage. They are used mainly for fat lambs and dairying; also, in drier areas, for cereals, pasture and vegetable seed crops, pulse crops for canning, pip and stone fruits, small fruits, and tobac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
            </a:r>
            <a:r>
              <a:rPr b="1" i="1" lang="en-GB" sz="1800" spc="-1" strike="noStrike">
                <a:solidFill>
                  <a:srgbClr val="000000"/>
                </a:solidFill>
                <a:latin typeface="Arial"/>
              </a:rPr>
              <a:t>steepland soils</a:t>
            </a:r>
            <a:r>
              <a:rPr b="1" lang="en-GB" sz="1800" spc="-1" strike="noStrike">
                <a:solidFill>
                  <a:srgbClr val="000000"/>
                </a:solidFill>
                <a:latin typeface="Arial"/>
              </a:rPr>
              <a:t> occupy about half the area of New Zealand, being most extensive on the axial ranges. Although showing characters related to the zone where they occur, they are, for the most part, shallow and their subsoils vary widely in fertility according to the underlying rock. Being relatively unstable they are periodically renewed by erosion which, when the plant cover is disturbed by man, becomes accelerated, with obvious effects, not only on the hillsides, but also on the rivers and riv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2:44:36Z</dcterms:created>
  <dc:creator>jamesw</dc:creator>
  <dc:description/>
  <dc:language>en-US</dc:language>
  <cp:lastModifiedBy>jamesw</cp:lastModifiedBy>
  <dcterms:modified xsi:type="dcterms:W3CDTF">2006-05-18T00:47:56Z</dcterms:modified>
  <cp:revision>5</cp:revision>
  <dc:subject/>
  <dc:title>Slide 1</dc:title>
</cp:coreProperties>
</file>